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7AA-697C-458D-909D-97A00F30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3BAC-0C5B-4CD4-A1CD-F3E37F36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9E14-4C29-434D-9C7E-A5FDEDDC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A37E-C87A-474D-B837-D417C2C2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883-3BBF-4B30-BF9A-525CB4D5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074-78B3-413D-9F9D-705970C0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954-008C-4128-89A5-2885C909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894-66F6-46CD-853F-C503B6CB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8FF-6E2E-4F99-9D4C-ADEC3B86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793-7C43-4412-9323-8D90C2C5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CE18-99E3-4B2D-889C-D0693105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1CD8-BF10-49BE-B988-37E46918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4CE1-620F-47EF-B3AF-188E2F10B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17920" y="2209680"/>
            <a:ext cx="3765240" cy="39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3080" y="495360"/>
            <a:ext cx="84582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6920" y="623880"/>
            <a:ext cx="8649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Using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Anchor(ing)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Activit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Anchor Activities to Create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8720" y="1625760"/>
            <a:ext cx="8102520" cy="101592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1000" y="1660680"/>
            <a:ext cx="769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ch the whole class to work independentl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ietly on the anchor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0120" y="3225960"/>
            <a:ext cx="3378240" cy="1396800"/>
          </a:xfrm>
          <a:prstGeom prst="roundRect">
            <a:avLst>
              <a:gd name="adj" fmla="val 12495"/>
            </a:avLst>
          </a:prstGeom>
          <a:solidFill>
            <a:srgbClr val="33cc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83360" y="3301920"/>
            <a:ext cx="3377880" cy="1397160"/>
          </a:xfrm>
          <a:prstGeom prst="roundRect">
            <a:avLst>
              <a:gd name="adj" fmla="val 12495"/>
            </a:avLst>
          </a:prstGeom>
          <a:solidFill>
            <a:srgbClr val="ff505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6320" y="3489480"/>
            <a:ext cx="322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lf the class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 anchor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64440" y="3565440"/>
            <a:ext cx="322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ther half works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different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64040" y="3378240"/>
            <a:ext cx="1015920" cy="482400"/>
          </a:xfrm>
          <a:prstGeom prst="rightArrow">
            <a:avLst>
              <a:gd name="adj1" fmla="val 50000"/>
              <a:gd name="adj2" fmla="val 105308"/>
            </a:avLst>
          </a:prstGeom>
          <a:solidFill>
            <a:srgbClr val="ff0066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87720" y="4064040"/>
            <a:ext cx="939960" cy="558720"/>
          </a:xfrm>
          <a:prstGeom prst="leftArrow">
            <a:avLst>
              <a:gd name="adj1" fmla="val 50000"/>
              <a:gd name="adj2" fmla="val 84109"/>
            </a:avLst>
          </a:prstGeom>
          <a:solidFill>
            <a:srgbClr val="ff0066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99080" y="2879640"/>
            <a:ext cx="147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Flip-F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1520" y="5207040"/>
            <a:ext cx="2997360" cy="1168200"/>
          </a:xfrm>
          <a:prstGeom prst="octagon">
            <a:avLst>
              <a:gd name="adj" fmla="val 29282"/>
            </a:avLst>
          </a:prstGeom>
          <a:solidFill>
            <a:srgbClr val="ffff66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73320" y="5207040"/>
            <a:ext cx="2997360" cy="1168200"/>
          </a:xfrm>
          <a:prstGeom prst="octagon">
            <a:avLst>
              <a:gd name="adj" fmla="val 29282"/>
            </a:avLst>
          </a:prstGeom>
          <a:solidFill>
            <a:srgbClr val="00cc66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43680" y="5208480"/>
            <a:ext cx="2997000" cy="1168560"/>
          </a:xfrm>
          <a:prstGeom prst="octagon">
            <a:avLst>
              <a:gd name="adj" fmla="val 29282"/>
            </a:avLst>
          </a:prstGeom>
          <a:solidFill>
            <a:srgbClr val="cc66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4160" y="5318280"/>
            <a:ext cx="255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/3 works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chor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18760" y="5394240"/>
            <a:ext cx="284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/3 works 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fferent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30400" y="5241960"/>
            <a:ext cx="2158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3 works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acher---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str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960" y="1417680"/>
            <a:ext cx="41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960" y="2637000"/>
            <a:ext cx="41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960" y="4618080"/>
            <a:ext cx="41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Times New Roman"/>
              </a:rPr>
              <a:t>ANCHOR ACTIV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6560" y="1293840"/>
            <a:ext cx="186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an be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360" y="1919160"/>
            <a:ext cx="67215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used in any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le class 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small group or individual assignment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Comic Sans MS"/>
              </a:rPr>
              <a:t>tiered to meet the needs of different readiness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Interdisciplinary for use across content areas or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000920" y="1066680"/>
            <a:ext cx="17254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Times New Roman"/>
              </a:rPr>
              <a:t>ANCHOR ACTIV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k be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n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pectations are clear and the tasks are taught and practice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prior to us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en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students are held accountable for on task behavior and/or task comple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751280" y="1905120"/>
            <a:ext cx="3765600" cy="39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49160" y="198360"/>
            <a:ext cx="624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lanning for Anchor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480" y="974880"/>
            <a:ext cx="3540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bject/Content A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5360" y="2041560"/>
            <a:ext cx="639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ame and description of anchor activ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7160" y="3108240"/>
            <a:ext cx="687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will activity be introduced to stud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360" y="4251240"/>
            <a:ext cx="8381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Point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Percentage of Final 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Rubri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Portfolio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Checkli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Teacher/Student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Random Check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Peer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On Task Behavior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Other 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265880" y="914400"/>
            <a:ext cx="1536840" cy="1628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1200" y="3870360"/>
            <a:ext cx="77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will the activity be managed and monito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RAPID ROB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4960" y="5637240"/>
            <a:ext cx="670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“Dreaded Early Finishe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08080" y="1477800"/>
            <a:ext cx="466272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I’m Not Finished” Fredd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33120" y="3505320"/>
            <a:ext cx="46000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It takes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an hour-and-a-ha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to watch 60 Minut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5600" y="1806480"/>
            <a:ext cx="4392720" cy="40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A Good Resourc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6640" y="1951200"/>
            <a:ext cx="6759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Differentiate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n Mixed Ability Classro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5800" y="3260880"/>
            <a:ext cx="360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Carol Ann Toml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versity of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240" y="4479840"/>
            <a:ext cx="50907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rdering Inf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CD in Alexandria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one: 1-800-933-27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703) 549-9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x: (703) 299-86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248520" y="4495680"/>
          <a:ext cx="2276280" cy="16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4495680"/>
                    <a:ext cx="227628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Times New Roman"/>
              </a:rPr>
              <a:t>One premise in a differentiated classroo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73160" y="1809360"/>
            <a:ext cx="3784680" cy="18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“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In this class we are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never finished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13000" y="3579840"/>
            <a:ext cx="26996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Learning i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process 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never ends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43000" y="2438280"/>
          <a:ext cx="3343320" cy="33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38280"/>
                    <a:ext cx="334332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Anchor Activ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chor activ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ongoing assignments that students can work on independently throughout a unit, a grading period or long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751280" y="1905120"/>
            <a:ext cx="3765600" cy="39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Anchor Activ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chor activ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ongoing assignments that students can work on independently throughout a unit of study or long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51280" y="1905120"/>
            <a:ext cx="37656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ome Anchor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1143000"/>
            <a:ext cx="87627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“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Brain Buster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Learning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Activity 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Learning/Interest Ce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Vocabulary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Accelerated R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Investig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MSPAP or CRT Practice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Magazine Articles with Generic Questions or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Listening Stations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Research Questions or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Commercial Kits and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Journals or Learning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ilent Reading (Content Related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000920" y="1066680"/>
            <a:ext cx="17254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urpose of an Anchor Activity i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5840" y="2286000"/>
            <a:ext cx="739008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Provide </a:t>
            </a:r>
            <a:r>
              <a:rPr b="1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meaningful work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 for students when they finish an assignment or project, when they first enter the class or when they are “stumpe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Provide ongoing tasks that tie to the content and instruct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 up the classroom teacher to work with other groups of students or individu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36880" y="5334120"/>
            <a:ext cx="1344600" cy="1323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92160" y="36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6T01:00:08Z</dcterms:created>
  <dc:creator>Walt Kearney</dc:creator>
  <dc:description/>
  <dc:language>en-US</dc:language>
  <cp:lastModifiedBy>LJ Nelson</cp:lastModifiedBy>
  <cp:lastPrinted>1998-10-15T18:31:13Z</cp:lastPrinted>
  <dcterms:modified xsi:type="dcterms:W3CDTF">2009-04-09T19:56:34Z</dcterms:modified>
  <cp:revision>26</cp:revision>
  <dc:subject/>
  <dc:title>Anchor Activities</dc:title>
</cp:coreProperties>
</file>